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5.wmf" ContentType="image/x-wmf"/>
  <Override PartName="/ppt/media/image15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11.png" ContentType="image/png"/>
  <Override PartName="/ppt/media/image29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33.jpeg" ContentType="image/jpeg"/>
  <Override PartName="/ppt/media/image13.wmf" ContentType="image/x-wmf"/>
  <Override PartName="/ppt/media/image27.jpeg" ContentType="image/jpeg"/>
  <Override PartName="/ppt/media/image34.jpeg" ContentType="image/jpeg"/>
  <Override PartName="/ppt/media/image28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2.jpeg" ContentType="image/jpeg"/>
  <Override PartName="/ppt/media/image43.jpeg" ContentType="image/jpeg"/>
  <Override PartName="/ppt/media/image12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6.png" ContentType="image/png"/>
  <Override PartName="/ppt/media/image14.wmf" ContentType="image/x-wmf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3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51DF-D3C0-4961-AF1E-CF1EAA2AD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010B-CAC2-46AB-817C-40278DBB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CCC2-07DA-4390-AE87-C7642D888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F7AB-64A0-4721-809E-D5EDE991D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4A08-E7DE-4B57-B11D-458EBF31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2950-5CED-4F12-B2CE-75A3AFDC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A748-B097-422C-95B9-21E39160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EA8C-BCB1-4346-8719-D9610848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3E32-5933-4A5E-BF47-EA2A9D40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6C21-6AEB-4876-90E7-38EE64BB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F925-9118-4BAB-AB6F-F2D91A96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8291-C4A9-4A0C-939D-3E4E338E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B1C3-DFD9-4EAB-978D-C8E9DE693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26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api.ning.com/files/4TorzpC5WL5yydG389fHcvDRSCSeHt0NAGmiURLty-DQCGRmtWkantAK4RTNX4GUibZFBPUuXSL3F0kR1-9V*sDY6nh8z72b/texas.jpg&amp;imgrefurl=http://network.latpro.com/group/texas&amp;usg=__t3qJIwp2lQc7ouGyWAmEme0nM_M=&amp;h=1200&amp;w=1200&amp;sz=72&amp;hl=en&amp;start=3&amp;tbnid=yXY1_ahEanY_uM:&amp;tbnh=150&amp;tbnw=150&amp;prev=/images?q=texas&amp;gbv=2&amp;hl=en&amp;ie=UTF-8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/imgres?imgurl=http://www.lawline.com/images/NC.GIF&amp;imgrefurl=http://www.lawline.com/cle/view-bundles.php&amp;usg=__Emvg-3qWD_ymX9iQCkyGiMpxg20=&amp;h=600&amp;w=800&amp;sz=4&amp;hl=en&amp;start=2&amp;tbnid=G6ZGzcgB5Zlx8M:&amp;tbnh=107&amp;tbnw=143&amp;prev=/images?q=nc&amp;gbv=2&amp;hl=en&amp;ie=UTF-8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hyperlink" Target="http://images.google.com/imgres?imgurl=http://us.history.wisc.edu/hist102/weblect/lec03/indian_chief_joseph.jpg&amp;imgrefurl=http://us.history.wisc.edu/hist102/weblect/lec03/03_06.htm&amp;usg=__chSG96TjfCqZSXBjQToyObCANtg=&amp;h=640&amp;w=491&amp;sz=61&amp;hl=en&amp;start=87&amp;tbnid=7WVXDyxGcMfn6M:&amp;tbnh=137&amp;tbnw=105&amp;prev=/images?q=indian+chief&amp;gbv=2&amp;ndsp=20&amp;hl=en&amp;sa=N&amp;start=80&amp;ie=UTF-8" TargetMode="External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hyperlink" Target="http://images.google.com/imgres?imgurl=http://www.carolina-north.com/images/nc_flag.jpg&amp;imgrefurl=http://www.carolina-north.com/state_flag.html&amp;usg=__JMz4PnmtJeczOPahPAAiNiooe8Y=&amp;h=403&amp;w=539&amp;sz=18&amp;hl=en&amp;start=1&amp;tbnid=p33s6gpvFEVUvM:&amp;tbnh=99&amp;tbnw=132&amp;prev=/images?q=nc+flag&amp;gbv=2&amp;hl=en&amp;ie=UTF-8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4876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Amendments 11-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amendments_scramble"/>
          <p:cNvPicPr/>
          <p:nvPr/>
        </p:nvPicPr>
        <p:blipFill>
          <a:blip r:embed="rId1"/>
          <a:stretch/>
        </p:blipFill>
        <p:spPr>
          <a:xfrm>
            <a:off x="3481560" y="304920"/>
            <a:ext cx="5052960" cy="495288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 rot="20087400">
            <a:off x="533520" y="2971800"/>
            <a:ext cx="441936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Constitution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066680" y="18288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s women the right to vot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sba-arrested"/>
          <p:cNvPicPr/>
          <p:nvPr/>
        </p:nvPicPr>
        <p:blipFill>
          <a:blip r:embed="rId1"/>
          <a:stretch/>
        </p:blipFill>
        <p:spPr>
          <a:xfrm>
            <a:off x="76320" y="304920"/>
            <a:ext cx="2101680" cy="3504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votestamp"/>
          <p:cNvPicPr/>
          <p:nvPr/>
        </p:nvPicPr>
        <p:blipFill>
          <a:blip r:embed="rId2"/>
          <a:stretch/>
        </p:blipFill>
        <p:spPr>
          <a:xfrm>
            <a:off x="2666880" y="2971800"/>
            <a:ext cx="3514680" cy="374328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0"/>
          <p:cNvSpPr/>
          <p:nvPr/>
        </p:nvSpPr>
        <p:spPr>
          <a:xfrm>
            <a:off x="6400800" y="2362320"/>
            <a:ext cx="2514600" cy="1371600"/>
          </a:xfrm>
          <a:prstGeom prst="wedgeRoundRectCallout">
            <a:avLst>
              <a:gd name="adj1" fmla="val -86111"/>
              <a:gd name="adj2" fmla="val 5208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6324480" y="259092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finally have suffrage righ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2009-january"/>
          <p:cNvPicPr/>
          <p:nvPr/>
        </p:nvPicPr>
        <p:blipFill>
          <a:blip r:embed="rId1"/>
          <a:stretch/>
        </p:blipFill>
        <p:spPr>
          <a:xfrm>
            <a:off x="609480" y="2057400"/>
            <a:ext cx="3733920" cy="2951280"/>
          </a:xfrm>
          <a:prstGeom prst="rect">
            <a:avLst/>
          </a:prstGeom>
          <a:ln w="0">
            <a:noFill/>
          </a:ln>
        </p:spPr>
      </p:pic>
      <p:sp>
        <p:nvSpPr>
          <p:cNvPr id="127" name="Oval 7"/>
          <p:cNvSpPr/>
          <p:nvPr/>
        </p:nvSpPr>
        <p:spPr>
          <a:xfrm>
            <a:off x="1676520" y="3657600"/>
            <a:ext cx="609480" cy="5335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9" descr="march-calander"/>
          <p:cNvPicPr/>
          <p:nvPr/>
        </p:nvPicPr>
        <p:blipFill>
          <a:blip r:embed="rId2"/>
          <a:stretch/>
        </p:blipFill>
        <p:spPr>
          <a:xfrm>
            <a:off x="4952880" y="2286000"/>
            <a:ext cx="3657600" cy="299088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10"/>
          <p:cNvSpPr/>
          <p:nvPr/>
        </p:nvSpPr>
        <p:spPr>
          <a:xfrm flipH="1" rot="20433600">
            <a:off x="761400" y="1676160"/>
            <a:ext cx="5943600" cy="1371600"/>
          </a:xfrm>
          <a:custGeom>
            <a:avLst/>
            <a:gdLst>
              <a:gd name="textAreaLeft" fmla="*/ 1173240 w 5943600"/>
              <a:gd name="textAreaRight" fmla="*/ 4159440 w 5943600"/>
              <a:gd name="textAreaTop" fmla="*/ 183600 h 1371600"/>
              <a:gd name="textAreaBottom" fmla="*/ 11880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25" hR="21600" stAng="10800000" swAng="5400000"/>
                <a:lnTo>
                  <a:pt x="10853" y="0"/>
                </a:lnTo>
                <a:arcTo wR="8525" hR="21600" stAng="-5400000" swAng="1633275"/>
                <a:lnTo>
                  <a:pt x="19839" y="8452"/>
                </a:lnTo>
                <a:lnTo>
                  <a:pt x="18213" y="21600"/>
                </a:lnTo>
                <a:lnTo>
                  <a:pt x="13065" y="8452"/>
                </a:lnTo>
                <a:lnTo>
                  <a:pt x="15288" y="8452"/>
                </a:lnTo>
                <a:arcTo wR="8525" hR="21600" stAng="-3766725" swAng="-1446451"/>
                <a:lnTo>
                  <a:pt x="9689" y="202"/>
                </a:lnTo>
                <a:arcTo wR="8525" hR="21600" stAng="-5586824" swAng="-5213176"/>
                <a:close/>
              </a:path>
              <a:path fill="darkenLess" w="21600" h="21600">
                <a:moveTo>
                  <a:pt x="0" y="21600"/>
                </a:moveTo>
                <a:arcTo wR="8525" hR="21600" stAng="10800000" swAng="5400000"/>
                <a:lnTo>
                  <a:pt x="8525" y="0"/>
                </a:lnTo>
                <a:arcTo wR="8525" hR="21600" stAng="-5400000" swAng="186824"/>
                <a:lnTo>
                  <a:pt x="9689" y="202"/>
                </a:lnTo>
                <a:arcTo wR="8525" hR="21600" stAng="-5586824" swAng="-5213176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304920" y="533412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es the presidential inauguration date from the month of March to January 2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This amendment is also known as the “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ame Du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          amend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3" descr="lameduck"/>
          <p:cNvPicPr/>
          <p:nvPr/>
        </p:nvPicPr>
        <p:blipFill>
          <a:blip r:embed="rId3"/>
          <a:stretch/>
        </p:blipFill>
        <p:spPr>
          <a:xfrm>
            <a:off x="6629400" y="5638680"/>
            <a:ext cx="571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380880" y="16765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hibition ends,                        , alcohol is legal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goodolddays"/>
          <p:cNvPicPr/>
          <p:nvPr/>
        </p:nvPicPr>
        <p:blipFill>
          <a:blip r:embed="rId1"/>
          <a:stretch/>
        </p:blipFill>
        <p:spPr>
          <a:xfrm>
            <a:off x="76320" y="763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prohibition"/>
          <p:cNvPicPr/>
          <p:nvPr/>
        </p:nvPicPr>
        <p:blipFill>
          <a:blip r:embed="rId2"/>
          <a:stretch/>
        </p:blipFill>
        <p:spPr>
          <a:xfrm>
            <a:off x="6934320" y="76320"/>
            <a:ext cx="2057400" cy="1531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Champaigne"/>
          <p:cNvPicPr/>
          <p:nvPr/>
        </p:nvPicPr>
        <p:blipFill>
          <a:blip r:embed="rId3"/>
          <a:stretch/>
        </p:blipFill>
        <p:spPr>
          <a:xfrm>
            <a:off x="304920" y="2514600"/>
            <a:ext cx="4647960" cy="323856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11"/>
          <p:cNvSpPr/>
          <p:nvPr/>
        </p:nvSpPr>
        <p:spPr>
          <a:xfrm>
            <a:off x="380880" y="2362320"/>
            <a:ext cx="4496040" cy="3657600"/>
          </a:xfrm>
          <a:custGeom>
            <a:avLst/>
            <a:gdLst>
              <a:gd name="textAreaLeft" fmla="*/ 658080 w 4496040"/>
              <a:gd name="textAreaRight" fmla="*/ 3837960 w 4496040"/>
              <a:gd name="textAreaTop" fmla="*/ 535320 h 3657600"/>
              <a:gd name="textAreaBottom" fmla="*/ 312228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699" y="9117"/>
                  <a:pt x="2699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3"/>
          <p:cNvSpPr/>
          <p:nvPr/>
        </p:nvSpPr>
        <p:spPr>
          <a:xfrm rot="17752800">
            <a:off x="2436120" y="1297440"/>
            <a:ext cx="533160" cy="5405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2"/>
          <p:cNvSpPr/>
          <p:nvPr/>
        </p:nvSpPr>
        <p:spPr>
          <a:xfrm rot="3245400">
            <a:off x="2435400" y="1450080"/>
            <a:ext cx="533520" cy="5405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4"/>
          <p:cNvSpPr/>
          <p:nvPr/>
        </p:nvSpPr>
        <p:spPr>
          <a:xfrm rot="19388400">
            <a:off x="1143720" y="38858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er     M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6" descr="33657108"/>
          <p:cNvPicPr/>
          <p:nvPr/>
        </p:nvPicPr>
        <p:blipFill>
          <a:blip r:embed="rId4"/>
          <a:stretch/>
        </p:blipFill>
        <p:spPr>
          <a:xfrm rot="20690400">
            <a:off x="5562720" y="3352680"/>
            <a:ext cx="2146320" cy="3276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" descr="champaigne"/>
          <p:cNvPicPr/>
          <p:nvPr/>
        </p:nvPicPr>
        <p:blipFill>
          <a:blip r:embed="rId5"/>
          <a:stretch/>
        </p:blipFill>
        <p:spPr>
          <a:xfrm>
            <a:off x="7696080" y="2971800"/>
            <a:ext cx="1160640" cy="12952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9"/>
          <p:cNvSpPr/>
          <p:nvPr/>
        </p:nvSpPr>
        <p:spPr>
          <a:xfrm>
            <a:off x="5257800" y="257508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reak out the Champaign!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0"/>
          <p:cNvSpPr/>
          <p:nvPr/>
        </p:nvSpPr>
        <p:spPr>
          <a:xfrm>
            <a:off x="0" y="16765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pea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5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FDR"/>
          <p:cNvPicPr/>
          <p:nvPr/>
        </p:nvPicPr>
        <p:blipFill>
          <a:blip r:embed="rId1"/>
          <a:stretch/>
        </p:blipFill>
        <p:spPr>
          <a:xfrm rot="20527800">
            <a:off x="762120" y="1523520"/>
            <a:ext cx="1427040" cy="2119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george_washington"/>
          <p:cNvPicPr/>
          <p:nvPr/>
        </p:nvPicPr>
        <p:blipFill>
          <a:blip r:embed="rId2"/>
          <a:stretch/>
        </p:blipFill>
        <p:spPr>
          <a:xfrm rot="522000">
            <a:off x="6400440" y="1371240"/>
            <a:ext cx="1824120" cy="228600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11"/>
          <p:cNvSpPr/>
          <p:nvPr/>
        </p:nvSpPr>
        <p:spPr>
          <a:xfrm>
            <a:off x="2971800" y="1371600"/>
            <a:ext cx="2819520" cy="1523880"/>
          </a:xfrm>
          <a:prstGeom prst="wedgeRoundRectCallout">
            <a:avLst>
              <a:gd name="adj1" fmla="val -86541"/>
              <a:gd name="adj2" fmla="val 3552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3048120" y="1371600"/>
            <a:ext cx="2666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know, I know, George, I broke your tradition of only serving two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5"/>
          <p:cNvSpPr/>
          <p:nvPr/>
        </p:nvSpPr>
        <p:spPr>
          <a:xfrm>
            <a:off x="609480" y="3200400"/>
            <a:ext cx="4114800" cy="1828800"/>
          </a:xfrm>
          <a:prstGeom prst="cloudCallout">
            <a:avLst>
              <a:gd name="adj1" fmla="val -30592"/>
              <a:gd name="adj2" fmla="val 28731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6"/>
          <p:cNvSpPr/>
          <p:nvPr/>
        </p:nvSpPr>
        <p:spPr>
          <a:xfrm>
            <a:off x="4724280" y="3124080"/>
            <a:ext cx="4114800" cy="1828800"/>
          </a:xfrm>
          <a:prstGeom prst="cloudCallout">
            <a:avLst>
              <a:gd name="adj1" fmla="val -29398"/>
              <a:gd name="adj2" fmla="val 11111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7"/>
          <p:cNvSpPr/>
          <p:nvPr/>
        </p:nvSpPr>
        <p:spPr>
          <a:xfrm>
            <a:off x="2362320" y="3429000"/>
            <a:ext cx="4114800" cy="1828800"/>
          </a:xfrm>
          <a:prstGeom prst="cloudCallout">
            <a:avLst>
              <a:gd name="adj1" fmla="val 32212"/>
              <a:gd name="adj2" fmla="val -38453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533520" y="5257800"/>
            <a:ext cx="7924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lin Roosevelt was elected four times, all presidents are now limited to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wo term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Terms, 2 Terms per presi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map_of_washington-dc"/>
          <p:cNvPicPr/>
          <p:nvPr/>
        </p:nvPicPr>
        <p:blipFill>
          <a:blip r:embed="rId1"/>
          <a:stretch/>
        </p:blipFill>
        <p:spPr>
          <a:xfrm>
            <a:off x="2362320" y="1600200"/>
            <a:ext cx="4438440" cy="33336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7"/>
          <p:cNvSpPr/>
          <p:nvPr/>
        </p:nvSpPr>
        <p:spPr>
          <a:xfrm>
            <a:off x="457200" y="53341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tizens of Washington, D.C. (our U.S. Capital) receive the right to vote in presidential elections.  Washington, D.C. is given 3 electoral v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9" descr="dc_washingtonMonument_01"/>
          <p:cNvPicPr/>
          <p:nvPr/>
        </p:nvPicPr>
        <p:blipFill>
          <a:blip r:embed="rId2"/>
          <a:stretch/>
        </p:blipFill>
        <p:spPr>
          <a:xfrm>
            <a:off x="228600" y="2057400"/>
            <a:ext cx="1943280" cy="2590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Jordan_Wizards"/>
          <p:cNvPicPr/>
          <p:nvPr/>
        </p:nvPicPr>
        <p:blipFill>
          <a:blip r:embed="rId3"/>
          <a:stretch/>
        </p:blipFill>
        <p:spPr>
          <a:xfrm>
            <a:off x="5410080" y="2590920"/>
            <a:ext cx="2838600" cy="232416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12"/>
          <p:cNvSpPr/>
          <p:nvPr/>
        </p:nvSpPr>
        <p:spPr>
          <a:xfrm>
            <a:off x="6324480" y="1066680"/>
            <a:ext cx="2819520" cy="1371600"/>
          </a:xfrm>
          <a:prstGeom prst="wedgeRoundRectCallout">
            <a:avLst>
              <a:gd name="adj1" fmla="val 8499"/>
              <a:gd name="adj2" fmla="val 9363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6324480" y="1143000"/>
            <a:ext cx="266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ut time these folks can vote for the pre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5" descr="white-house-picture"/>
          <p:cNvPicPr/>
          <p:nvPr/>
        </p:nvPicPr>
        <p:blipFill>
          <a:blip r:embed="rId4"/>
          <a:stretch/>
        </p:blipFill>
        <p:spPr>
          <a:xfrm>
            <a:off x="76320" y="76320"/>
            <a:ext cx="2266920" cy="15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1295280" y="57150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00"/>
                </a:solidFill>
                <a:uFillTx/>
                <a:latin typeface="Arial"/>
              </a:rPr>
              <a:t>Outlaw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ll 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1918poll184gph"/>
          <p:cNvPicPr/>
          <p:nvPr/>
        </p:nvPicPr>
        <p:blipFill>
          <a:blip r:embed="rId1"/>
          <a:stretch/>
        </p:blipFill>
        <p:spPr>
          <a:xfrm rot="833400">
            <a:off x="380520" y="3679560"/>
            <a:ext cx="3391200" cy="1654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57432168"/>
          <p:cNvPicPr/>
          <p:nvPr/>
        </p:nvPicPr>
        <p:blipFill>
          <a:blip r:embed="rId2"/>
          <a:stretch/>
        </p:blipFill>
        <p:spPr>
          <a:xfrm>
            <a:off x="4781520" y="2438280"/>
            <a:ext cx="2457360" cy="177804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8"/>
          <p:cNvSpPr/>
          <p:nvPr/>
        </p:nvSpPr>
        <p:spPr>
          <a:xfrm flipH="1">
            <a:off x="990000" y="1219320"/>
            <a:ext cx="3276360" cy="2133360"/>
          </a:xfrm>
          <a:prstGeom prst="cloudCallout">
            <a:avLst>
              <a:gd name="adj1" fmla="val -74810"/>
              <a:gd name="adj2" fmla="val 427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1295280" y="1523880"/>
            <a:ext cx="2743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!! Now I can vote and feed my family.  One less thing I have to pa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0"/>
          <p:cNvSpPr/>
          <p:nvPr/>
        </p:nvSpPr>
        <p:spPr>
          <a:xfrm>
            <a:off x="990720" y="3505320"/>
            <a:ext cx="1904760" cy="1981080"/>
          </a:xfrm>
          <a:custGeom>
            <a:avLst/>
            <a:gdLst>
              <a:gd name="textAreaLeft" fmla="*/ 278640 w 1904760"/>
              <a:gd name="textAreaRight" fmla="*/ 1626120 w 1904760"/>
              <a:gd name="textAreaTop" fmla="*/ 289800 h 1981080"/>
              <a:gd name="textAreaBottom" fmla="*/ 169128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699" y="9117"/>
                  <a:pt x="2699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37" dur="1000" fill="hold"/>
                                        <p:tgtEl>
                                          <p:spTgt spid="1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762120" y="12952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ines procedures for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ucces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the presidency.  The V.P. takes over as president if the president is unable to fulfill his/her job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biden"/>
          <p:cNvPicPr/>
          <p:nvPr/>
        </p:nvPicPr>
        <p:blipFill>
          <a:blip r:embed="rId1"/>
          <a:stretch/>
        </p:blipFill>
        <p:spPr>
          <a:xfrm>
            <a:off x="4191120" y="3230640"/>
            <a:ext cx="3838320" cy="252072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8"/>
          <p:cNvSpPr/>
          <p:nvPr/>
        </p:nvSpPr>
        <p:spPr>
          <a:xfrm>
            <a:off x="533520" y="2590920"/>
            <a:ext cx="3504960" cy="1981080"/>
          </a:xfrm>
          <a:prstGeom prst="wedgeRoundRectCallout">
            <a:avLst>
              <a:gd name="adj1" fmla="val 68884"/>
              <a:gd name="adj2" fmla="val 2451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533520" y="2743200"/>
            <a:ext cx="327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to worry, I’m ready to step in if something happens to Barr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mend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WordArt 4"/>
          <p:cNvSpPr txBox="1"/>
          <p:nvPr/>
        </p:nvSpPr>
        <p:spPr>
          <a:xfrm rot="20408400">
            <a:off x="-60480" y="2133720"/>
            <a:ext cx="594360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8 year olds have suffrage rights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76" name="Picture 6" descr="YoungFolk"/>
          <p:cNvPicPr/>
          <p:nvPr/>
        </p:nvPicPr>
        <p:blipFill>
          <a:blip r:embed="rId1"/>
          <a:stretch/>
        </p:blipFill>
        <p:spPr>
          <a:xfrm>
            <a:off x="3124080" y="3200400"/>
            <a:ext cx="3333960" cy="333360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7"/>
          <p:cNvSpPr/>
          <p:nvPr/>
        </p:nvSpPr>
        <p:spPr>
          <a:xfrm flipH="1">
            <a:off x="5942880" y="1905120"/>
            <a:ext cx="3048120" cy="1981080"/>
          </a:xfrm>
          <a:prstGeom prst="wedgeRoundRectCallout">
            <a:avLst>
              <a:gd name="adj1" fmla="val 86925"/>
              <a:gd name="adj2" fmla="val 10600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6019920" y="2041560"/>
            <a:ext cx="2819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think it means we can vote!!!   But, wait a minute, aren’t we having a party on that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533520" y="51055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gress can give themselves a pay raise, but they have to wait until after the next election before they can get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" descr="Mike_McIntyre,_official_Congressional_photo"/>
          <p:cNvPicPr/>
          <p:nvPr/>
        </p:nvPicPr>
        <p:blipFill>
          <a:blip r:embed="rId1"/>
          <a:srcRect l="0" t="12767" r="0" b="0"/>
          <a:stretch/>
        </p:blipFill>
        <p:spPr>
          <a:xfrm>
            <a:off x="4971960" y="1600200"/>
            <a:ext cx="1878120" cy="251460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8"/>
          <p:cNvSpPr/>
          <p:nvPr/>
        </p:nvSpPr>
        <p:spPr>
          <a:xfrm>
            <a:off x="1066680" y="1905120"/>
            <a:ext cx="2590920" cy="1981080"/>
          </a:xfrm>
          <a:prstGeom prst="wedgeRoundRectCallout">
            <a:avLst>
              <a:gd name="adj1" fmla="val 121324"/>
              <a:gd name="adj2" fmla="val -125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914400" y="2057400"/>
            <a:ext cx="281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mean I can give myself a pay raise, but I’ll have to wait until after my reelection to get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4495680" y="40384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ke McIntyre                 US Congressman,           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strict, N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33520" y="541008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itizen of one state can’t sue the government of another state unless it is done in the state being su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texa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1676520"/>
            <a:ext cx="3578400" cy="3578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NC">
            <a:hlinkClick r:id="rId3"/>
          </p:cNvPr>
          <p:cNvPicPr/>
          <p:nvPr/>
        </p:nvPicPr>
        <p:blipFill>
          <a:blip r:embed="rId4"/>
          <a:srcRect l="0" t="22960" r="0" b="23525"/>
          <a:stretch/>
        </p:blipFill>
        <p:spPr>
          <a:xfrm>
            <a:off x="685800" y="3581280"/>
            <a:ext cx="2662200" cy="1067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MCj04404880000[1]"/>
          <p:cNvPicPr/>
          <p:nvPr/>
        </p:nvPicPr>
        <p:blipFill>
          <a:blip r:embed="rId5"/>
          <a:stretch/>
        </p:blipFill>
        <p:spPr>
          <a:xfrm>
            <a:off x="2590920" y="2209680"/>
            <a:ext cx="1101600" cy="1447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MCj04405720000[1]"/>
          <p:cNvPicPr/>
          <p:nvPr/>
        </p:nvPicPr>
        <p:blipFill>
          <a:blip r:embed="rId6"/>
          <a:stretch/>
        </p:blipFill>
        <p:spPr>
          <a:xfrm>
            <a:off x="4495680" y="1676520"/>
            <a:ext cx="1613160" cy="16128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11"/>
          <p:cNvSpPr/>
          <p:nvPr/>
        </p:nvSpPr>
        <p:spPr>
          <a:xfrm>
            <a:off x="228600" y="1295280"/>
            <a:ext cx="2362320" cy="990720"/>
          </a:xfrm>
          <a:prstGeom prst="wedgeRoundRectCallout">
            <a:avLst>
              <a:gd name="adj1" fmla="val 52620"/>
              <a:gd name="adj2" fmla="val 12531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380880" y="14479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as, I’m going to sue 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6629400" y="990720"/>
            <a:ext cx="2362320" cy="990360"/>
          </a:xfrm>
          <a:prstGeom prst="wedgeRoundRectCallout">
            <a:avLst>
              <a:gd name="adj1" fmla="val -90388"/>
              <a:gd name="adj2" fmla="val 123078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6705720" y="10666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’re gonna sue Texas, you gotta sue Texas in Tex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380880" y="569916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oral College has separate ballots for President and Vice-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 rot="20329200">
            <a:off x="1295280" y="2057040"/>
            <a:ext cx="2438640" cy="32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 rot="487200">
            <a:off x="5410080" y="1904760"/>
            <a:ext cx="243864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 rot="20369400">
            <a:off x="914760" y="2131200"/>
            <a:ext cx="23619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oral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idential Bal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 rot="530400">
            <a:off x="5443920" y="2008080"/>
            <a:ext cx="2638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oral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ce-Presidential Bal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 rot="20369400">
            <a:off x="1296360" y="3182400"/>
            <a:ext cx="2362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ama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C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 rot="457200">
            <a:off x="5409360" y="3087360"/>
            <a:ext cx="2362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den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3"/>
          <p:cNvSpPr/>
          <p:nvPr/>
        </p:nvSpPr>
        <p:spPr>
          <a:xfrm>
            <a:off x="1905120" y="3048120"/>
            <a:ext cx="304560" cy="520560"/>
          </a:xfrm>
          <a:custGeom>
            <a:avLst/>
            <a:gdLst>
              <a:gd name="textAreaLeft" fmla="*/ 0 w 304560"/>
              <a:gd name="textAreaRight" fmla="*/ 304920 w 304560"/>
              <a:gd name="textAreaTop" fmla="*/ 0 h 520560"/>
              <a:gd name="textAreaBottom" fmla="*/ 520560 h 520560"/>
            </a:gdLst>
            <a:ahLst/>
            <a:rect l="textAreaLeft" t="textAreaTop" r="textAreaRight" b="textAreaBottom"/>
            <a:pathLst>
              <a:path w="192" h="328">
                <a:moveTo>
                  <a:pt x="0" y="240"/>
                </a:moveTo>
                <a:cubicBezTo>
                  <a:pt x="32" y="284"/>
                  <a:pt x="64" y="328"/>
                  <a:pt x="96" y="288"/>
                </a:cubicBezTo>
                <a:cubicBezTo>
                  <a:pt x="128" y="248"/>
                  <a:pt x="176" y="48"/>
                  <a:pt x="192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4"/>
          <p:cNvSpPr/>
          <p:nvPr/>
        </p:nvSpPr>
        <p:spPr>
          <a:xfrm rot="1331400">
            <a:off x="6171840" y="2755800"/>
            <a:ext cx="304920" cy="520920"/>
          </a:xfrm>
          <a:custGeom>
            <a:avLst/>
            <a:gdLst>
              <a:gd name="textAreaLeft" fmla="*/ 0 w 304920"/>
              <a:gd name="textAreaRight" fmla="*/ 305280 w 30492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92" h="328">
                <a:moveTo>
                  <a:pt x="0" y="240"/>
                </a:moveTo>
                <a:cubicBezTo>
                  <a:pt x="32" y="284"/>
                  <a:pt x="64" y="328"/>
                  <a:pt x="96" y="288"/>
                </a:cubicBezTo>
                <a:cubicBezTo>
                  <a:pt x="128" y="248"/>
                  <a:pt x="176" y="48"/>
                  <a:pt x="192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914400" y="58672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olished slavery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UCTfrontis2"/>
          <p:cNvPicPr/>
          <p:nvPr/>
        </p:nvPicPr>
        <p:blipFill>
          <a:blip r:embed="rId1"/>
          <a:stretch/>
        </p:blipFill>
        <p:spPr>
          <a:xfrm rot="20316000">
            <a:off x="1447560" y="1523520"/>
            <a:ext cx="2543040" cy="3848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13th-amendment"/>
          <p:cNvPicPr/>
          <p:nvPr/>
        </p:nvPicPr>
        <p:blipFill>
          <a:blip r:embed="rId2"/>
          <a:stretch/>
        </p:blipFill>
        <p:spPr>
          <a:xfrm>
            <a:off x="4800600" y="1600200"/>
            <a:ext cx="2762280" cy="2498760"/>
          </a:xfrm>
          <a:prstGeom prst="rect">
            <a:avLst/>
          </a:prstGeom>
          <a:ln w="0">
            <a:noFill/>
          </a:ln>
        </p:spPr>
      </p:pic>
      <p:sp>
        <p:nvSpPr>
          <p:cNvPr id="68" name="WordArt 12"/>
          <p:cNvSpPr txBox="1"/>
          <p:nvPr/>
        </p:nvSpPr>
        <p:spPr>
          <a:xfrm rot="5400000">
            <a:off x="5742720" y="3095640"/>
            <a:ext cx="561996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ivil War Amend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mendmen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usa"/>
          <p:cNvPicPr/>
          <p:nvPr/>
        </p:nvPicPr>
        <p:blipFill>
          <a:blip r:embed="rId1"/>
          <a:srcRect l="0" t="2003" r="1284" b="0"/>
          <a:stretch/>
        </p:blipFill>
        <p:spPr>
          <a:xfrm>
            <a:off x="762120" y="1600200"/>
            <a:ext cx="7543800" cy="48006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457200" y="1600200"/>
            <a:ext cx="55627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one born in the U.S. is a citiz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MCj04356480000[1]"/>
          <p:cNvPicPr/>
          <p:nvPr/>
        </p:nvPicPr>
        <p:blipFill>
          <a:blip r:embed="rId2"/>
          <a:stretch/>
        </p:blipFill>
        <p:spPr>
          <a:xfrm>
            <a:off x="2438280" y="2286000"/>
            <a:ext cx="1481400" cy="291780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10"/>
          <p:cNvSpPr/>
          <p:nvPr/>
        </p:nvSpPr>
        <p:spPr>
          <a:xfrm>
            <a:off x="4648320" y="2514600"/>
            <a:ext cx="2361960" cy="990720"/>
          </a:xfrm>
          <a:prstGeom prst="wedgeRoundRectCallout">
            <a:avLst>
              <a:gd name="adj1" fmla="val -77555"/>
              <a:gd name="adj2" fmla="val 267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4724280" y="26668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 too?  Me a ‘itiz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4495680" y="6026040"/>
            <a:ext cx="464832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, we are all equally          protected by the l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3" descr="MCj04405780000[1]"/>
          <p:cNvPicPr/>
          <p:nvPr/>
        </p:nvPicPr>
        <p:blipFill>
          <a:blip r:embed="rId3"/>
          <a:stretch/>
        </p:blipFill>
        <p:spPr>
          <a:xfrm rot="20199600">
            <a:off x="4038480" y="518148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MCj04349470000[1]"/>
          <p:cNvPicPr/>
          <p:nvPr/>
        </p:nvPicPr>
        <p:blipFill>
          <a:blip r:embed="rId4"/>
          <a:stretch/>
        </p:blipFill>
        <p:spPr>
          <a:xfrm>
            <a:off x="5181480" y="5105520"/>
            <a:ext cx="984240" cy="914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6" descr="MCj00890860000[1]"/>
          <p:cNvPicPr/>
          <p:nvPr/>
        </p:nvPicPr>
        <p:blipFill>
          <a:blip r:embed="rId5"/>
          <a:stretch/>
        </p:blipFill>
        <p:spPr>
          <a:xfrm>
            <a:off x="6095880" y="4876920"/>
            <a:ext cx="746280" cy="1276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7" descr="MCj03587590000[1]"/>
          <p:cNvPicPr/>
          <p:nvPr/>
        </p:nvPicPr>
        <p:blipFill>
          <a:blip r:embed="rId6"/>
          <a:stretch/>
        </p:blipFill>
        <p:spPr>
          <a:xfrm>
            <a:off x="6781680" y="5029200"/>
            <a:ext cx="1154160" cy="1023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9" descr="indian_chief_joseph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924680" y="5019840"/>
            <a:ext cx="825480" cy="1076040"/>
          </a:xfrm>
          <a:prstGeom prst="rect">
            <a:avLst/>
          </a:prstGeom>
          <a:ln w="0">
            <a:noFill/>
          </a:ln>
        </p:spPr>
      </p:pic>
      <p:sp>
        <p:nvSpPr>
          <p:cNvPr id="81" name="WordArt 20"/>
          <p:cNvSpPr txBox="1"/>
          <p:nvPr/>
        </p:nvSpPr>
        <p:spPr>
          <a:xfrm rot="5400000">
            <a:off x="6514920" y="2400120"/>
            <a:ext cx="449604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ivil War Amend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5"/>
          <p:cNvSpPr txBox="1"/>
          <p:nvPr/>
        </p:nvSpPr>
        <p:spPr>
          <a:xfrm rot="5400000">
            <a:off x="5742720" y="3095640"/>
            <a:ext cx="561996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ivil War Amend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762120" y="1676520"/>
            <a:ext cx="70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ting rights could not be denied because of race or color (or could it?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57432168"/>
          <p:cNvPicPr/>
          <p:nvPr/>
        </p:nvPicPr>
        <p:blipFill>
          <a:blip r:embed="rId1"/>
          <a:stretch/>
        </p:blipFill>
        <p:spPr>
          <a:xfrm>
            <a:off x="2895480" y="3048120"/>
            <a:ext cx="2457720" cy="177804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9"/>
          <p:cNvSpPr/>
          <p:nvPr/>
        </p:nvSpPr>
        <p:spPr>
          <a:xfrm>
            <a:off x="5105520" y="2362320"/>
            <a:ext cx="2286000" cy="1295280"/>
          </a:xfrm>
          <a:prstGeom prst="cloudCallout">
            <a:avLst>
              <a:gd name="adj1" fmla="val -76666"/>
              <a:gd name="adj2" fmla="val 508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0"/>
          <p:cNvSpPr/>
          <p:nvPr/>
        </p:nvSpPr>
        <p:spPr>
          <a:xfrm flipH="1">
            <a:off x="457200" y="2819520"/>
            <a:ext cx="2743200" cy="1066680"/>
          </a:xfrm>
          <a:prstGeom prst="cloudCallout">
            <a:avLst>
              <a:gd name="adj1" fmla="val -47282"/>
              <a:gd name="adj2" fmla="val 358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990720" y="3048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I vo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5334120" y="26668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, do I feed my fami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4" descr="polltax"/>
          <p:cNvPicPr/>
          <p:nvPr/>
        </p:nvPicPr>
        <p:blipFill>
          <a:blip r:embed="rId2"/>
          <a:stretch/>
        </p:blipFill>
        <p:spPr>
          <a:xfrm>
            <a:off x="5105520" y="3886200"/>
            <a:ext cx="2762280" cy="2728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6" descr="1918poll184gph"/>
          <p:cNvPicPr/>
          <p:nvPr/>
        </p:nvPicPr>
        <p:blipFill>
          <a:blip r:embed="rId3"/>
          <a:stretch/>
        </p:blipFill>
        <p:spPr>
          <a:xfrm rot="833400">
            <a:off x="609120" y="4647960"/>
            <a:ext cx="339120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33520" y="5715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ederal government can tax our inc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bills"/>
          <p:cNvPicPr/>
          <p:nvPr/>
        </p:nvPicPr>
        <p:blipFill>
          <a:blip r:embed="rId1"/>
          <a:stretch/>
        </p:blipFill>
        <p:spPr>
          <a:xfrm>
            <a:off x="2057400" y="2209680"/>
            <a:ext cx="3600360" cy="308952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9"/>
          <p:cNvSpPr/>
          <p:nvPr/>
        </p:nvSpPr>
        <p:spPr>
          <a:xfrm>
            <a:off x="228600" y="1143000"/>
            <a:ext cx="2362320" cy="990720"/>
          </a:xfrm>
          <a:prstGeom prst="wedgeRoundRectCallout">
            <a:avLst>
              <a:gd name="adj1" fmla="val 48050"/>
              <a:gd name="adj2" fmla="val 8701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304920" y="1143000"/>
            <a:ext cx="213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eat, all I need is a bill from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122407irs_cst_feed_20071223_20_27_19_92-310-400"/>
          <p:cNvPicPr/>
          <p:nvPr/>
        </p:nvPicPr>
        <p:blipFill>
          <a:blip r:embed="rId2"/>
          <a:stretch/>
        </p:blipFill>
        <p:spPr>
          <a:xfrm>
            <a:off x="5943600" y="3240000"/>
            <a:ext cx="2971800" cy="230364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13"/>
          <p:cNvSpPr/>
          <p:nvPr/>
        </p:nvSpPr>
        <p:spPr>
          <a:xfrm>
            <a:off x="5867280" y="1219320"/>
            <a:ext cx="3124440" cy="1523880"/>
          </a:xfrm>
          <a:prstGeom prst="wedgeRoundRectCallout">
            <a:avLst>
              <a:gd name="adj1" fmla="val -15851"/>
              <a:gd name="adj2" fmla="val 8364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5943600" y="1295280"/>
            <a:ext cx="297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n’t you worry, we know how to spen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YOU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mone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tter than y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152280" y="1676520"/>
            <a:ext cx="88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 to the 1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mendment, the state legislatures chose the senators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28600" y="592776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 passage of the 1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OP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irectly elect their sena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kay-hagen"/>
          <p:cNvPicPr/>
          <p:nvPr/>
        </p:nvPicPr>
        <p:blipFill>
          <a:blip r:embed="rId1"/>
          <a:stretch/>
        </p:blipFill>
        <p:spPr>
          <a:xfrm rot="783600">
            <a:off x="6552720" y="2666880"/>
            <a:ext cx="1905120" cy="2667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011006b"/>
          <p:cNvPicPr/>
          <p:nvPr/>
        </p:nvPicPr>
        <p:blipFill>
          <a:blip r:embed="rId2"/>
          <a:stretch/>
        </p:blipFill>
        <p:spPr>
          <a:xfrm rot="20587800">
            <a:off x="838080" y="2819160"/>
            <a:ext cx="1992600" cy="2560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nc_fla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33920" y="4343400"/>
            <a:ext cx="2076480" cy="155736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13"/>
          <p:cNvSpPr/>
          <p:nvPr/>
        </p:nvSpPr>
        <p:spPr>
          <a:xfrm>
            <a:off x="3429000" y="2819520"/>
            <a:ext cx="2362320" cy="1066680"/>
          </a:xfrm>
          <a:prstGeom prst="wedgeRoundRectCallout">
            <a:avLst>
              <a:gd name="adj1" fmla="val 4569"/>
              <a:gd name="adj2" fmla="val 8854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3276720" y="297036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better do a good job if you want to be ree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3429000" y="21337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.C. Sen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 rot="20549400">
            <a:off x="457560" y="2514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chard Bu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7"/>
          <p:cNvSpPr/>
          <p:nvPr/>
        </p:nvSpPr>
        <p:spPr>
          <a:xfrm rot="807600">
            <a:off x="6933960" y="2362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y Ha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5"/>
          <p:cNvSpPr txBox="1"/>
          <p:nvPr/>
        </p:nvSpPr>
        <p:spPr>
          <a:xfrm>
            <a:off x="905040" y="1884240"/>
            <a:ext cx="7333920" cy="2306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ohibited the sale of alcoh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13" name="Picture 7" descr="prohibitionxblog200"/>
          <p:cNvPicPr/>
          <p:nvPr/>
        </p:nvPicPr>
        <p:blipFill>
          <a:blip r:embed="rId1"/>
          <a:stretch/>
        </p:blipFill>
        <p:spPr>
          <a:xfrm>
            <a:off x="152280" y="152280"/>
            <a:ext cx="1828800" cy="1692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Prohibition"/>
          <p:cNvPicPr/>
          <p:nvPr/>
        </p:nvPicPr>
        <p:blipFill>
          <a:blip r:embed="rId2"/>
          <a:stretch/>
        </p:blipFill>
        <p:spPr>
          <a:xfrm>
            <a:off x="7238880" y="152280"/>
            <a:ext cx="1752840" cy="1712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Champaigne"/>
          <p:cNvPicPr/>
          <p:nvPr/>
        </p:nvPicPr>
        <p:blipFill>
          <a:blip r:embed="rId3"/>
          <a:stretch/>
        </p:blipFill>
        <p:spPr>
          <a:xfrm>
            <a:off x="2133720" y="2597040"/>
            <a:ext cx="4647960" cy="323856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14"/>
          <p:cNvSpPr/>
          <p:nvPr/>
        </p:nvSpPr>
        <p:spPr>
          <a:xfrm>
            <a:off x="2209680" y="2362320"/>
            <a:ext cx="4496040" cy="3657600"/>
          </a:xfrm>
          <a:custGeom>
            <a:avLst/>
            <a:gdLst>
              <a:gd name="textAreaLeft" fmla="*/ 658080 w 4496040"/>
              <a:gd name="textAreaRight" fmla="*/ 3837960 w 4496040"/>
              <a:gd name="textAreaTop" fmla="*/ 535320 h 3657600"/>
              <a:gd name="textAreaBottom" fmla="*/ 312228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699" y="9117"/>
                  <a:pt x="2699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304920" y="617220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known as prohib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6781680" y="64008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amendment 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23:40:53Z</dcterms:created>
  <dc:creator>Steven R. Roberts</dc:creator>
  <dc:description/>
  <dc:language>en-US</dc:language>
  <cp:lastModifiedBy>Mt. Healthy City School Distric</cp:lastModifiedBy>
  <dcterms:modified xsi:type="dcterms:W3CDTF">2015-04-13T12:22:12Z</dcterms:modified>
  <cp:revision>8</cp:revision>
  <dc:subject/>
  <dc:title>Amendments 11-27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